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DE0-BCFD-4999-8EC0-7BD7699E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389-C565-4AF2-AD80-5B52128E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AC1-682D-431A-9FFE-C4366B99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CDB-B5AF-4FFC-948A-11B373A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26C-9D46-4748-8DF4-752AF5D9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7C6-3AB7-49B5-B24A-4F0EE800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0EE-49CB-4C3D-9897-AAD643BD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C81-8DFC-4D49-B92F-728A9D6E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9A3-1575-41C1-A696-7CD004E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EAC-4A1C-429C-B6C1-1C3E77B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BE9-E12A-4FB3-9B6C-E593F32C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9CF-EF13-49AC-A643-CCDB7D01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E1ACD399-6139-41F1-AC6A-64566AABC463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and Put a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fgets(char *s, int n, 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fputs(char *s, 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functions read or write a string from or to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g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n entire line in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p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s in length (pass the size of the character array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s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af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g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the pointer s on success, or NULL if an error or end-of-file is rea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s the number of characters written if successful; otherwise, return E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write and fread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wri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inary file reading and writ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s are found in stdio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write (void *buf, int size, int count, FILE *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read  (void *buf, int size, int count, FILE *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a pointer to the region in memory to be written/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a pointer to anything (more on this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bytes of each individual data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number of data items to be written/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a 100 element array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( buf, sizeof(int), 100, 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turns the number of items actually written (re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write and fread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for err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(frwrite(buf,size,count,fp)) != count)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fprintf(stderr, "Error writing to file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single double variable x to a 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 (&amp;x, sizeof(double), 1, 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rites the double x to the file in raw binary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it simply writes the internal machine format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n array text[50] of 50 characters can be don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 (text, sizeof(char), 50, 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 (text, sizeof(text), 1, fp);  /* text must be a local array nam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fr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re efficient tha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sing and Flushing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close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returns 0 if it works -1 if i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lear a buffer without clos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flush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this is a force to d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useful when debug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cl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flu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r updates to a file may not be written to the file on disk.  (Operating systems like Unix usually use “write caching” disk acces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quential and Random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LE structure, there is a long type to indicate the position of your next reading or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read/write, the position mo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“rewind” and start reading from the beginning of the file ag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rewind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where the position indicator is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ong ftell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a long giving the current position in 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byte of the file is byte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error occurs,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tell 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ditional operation gives slightly better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seek (FILE * fp, long offset, int origin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ff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bytes to move the position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ys where to mov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ptions/constants are defined fo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EK_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indicator offset bytes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EK_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indicator offset bytes from its curre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EK_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indicator offset bytes from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cting End of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ode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 (   (c = fgetc (fp) ) != EO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characters until it encounters the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s that the byte of data read may actually be indistinguishable from E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mode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eof (FILE * 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e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realizes the end of file only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ading failed (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can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ge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eek(fp,0,SEEK_EN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 feof(fp))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zero value      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getc(fp)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fgetc returns -1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feof(fp));            /* nonzero value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define BUFSIZE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buf[BUFSIZE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 (fp=fopen("file1", "r"))==NUL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 (stderr,"Error opening file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it 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 (!feof(fp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gets  (buf,BUFSIZE,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%s",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close (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3440" y="1165320"/>
            <a:ext cx="4802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e Management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sing a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remove (const char * file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haracter string naming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0 if deleted; otherwise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ming a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rename (const char * oldname, const char * new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0 if successful or -1 if an error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: f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ld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: f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w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ready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: try to rename to another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emporary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that only exist during the execution of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*tmpnam (char *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stdio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valid filename that does not conflict with any other existing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is does not create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the N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then go and open it and presumably write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e created will continue to exist after the program executes unless you dele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E 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, we use a FILE * data type to access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* is defined in /usr/include/stdio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 = fopen("tmp.txt", "w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rintf(fp,"This is a test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close(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buffer[2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mpnam(buffe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Temporary name 1: %s", buffe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emporary name 1:  /var/tmp/aaaceay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2000" y="1486080"/>
            <a:ext cx="50734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ing a Fil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9296640" cy="6172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LE * fopen (const char * filename, const char *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ructure type declared in stdio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n't need to worry about the details of th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 it may vary from system to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a pointer to the FILE structur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declare a pointer of type FILE to receive that value when it is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turned pointer in all subsequent references to tha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s, NULL is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gument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ame of the file to be o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ing a Fil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los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otes or pass as a string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open the file for reading (NULL if it doesn’t e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reate for writing. destroy old if fil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pen for writing. create if not there. start at the end-of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pen for update (r/w).  create if not there.  start at the begi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for r/w. destroy old if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pen for r/w. create if not there. start at the end-of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ext book, there are other binary modes with the lette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y have no effect in today’s C compil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din, stdout, and stder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 program has three files opened for them at start-up: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e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ened for reading, wh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pened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used wherever a FILE * can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(stdout, "Hello there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ame a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Hello there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canf(stdin, "%d", &amp;int_v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ame a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int_v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(stderr, "An error has occurred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eful to report errors to standard error - it flushes output as well, so this is really good for debugg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xit ()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leave the program at anytime from anywher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“normal” exit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exit (statu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 (fp=fopen("a.txt","r")) == NULL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rintf(stderr, "Cannot open file a.txt!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xit(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Ways to Read and Write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ted file I/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and put a chara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and put a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read and 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File I/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ted File input is done through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fscan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scanf (FILE * fp, const char * fmt, ...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ted File output is done throug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printf(FILE *fp, const char *fmt, …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LE *fp1, *fp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1 = fopen("file1", "r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2 = fopen("file2", "w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canf(fp1, "%d", &amp;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(fp2, "%d", 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close(fp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close(fp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and Put a 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fgetc(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fputc(int c, 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functions read or write a single byte from or to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get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the character that was read, converted to an int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pu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s the same value of parameter c if it succeeds, otherwise, return E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csnow</cp:lastModifiedBy>
  <cp:lastPrinted>1998-07-26T16:47:22Z</cp:lastPrinted>
  <dcterms:modified xsi:type="dcterms:W3CDTF">2003-05-30T19:09:21Z</dcterms:modified>
  <cp:revision>1481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